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E5D-DAC1-4D2D-BAEC-6DB2C189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CF9-CA0D-4E90-B523-AC7A8020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A76-0B57-4EF2-AAA4-ACD5C188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02A-2719-44CB-BED4-F5415FEF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02F-49C4-4244-AA1D-AC4CAA7C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62B-523F-48E1-80C6-292DB342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BDF-45EA-4F72-842B-4CC798BF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EB5-0921-46F5-8A33-D36567EF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F98-211E-47F1-B45D-1074066F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30C-81A7-4485-B7A6-0543535E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6DE-4202-495B-A7C5-1E7DDFFC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CA5-6D8F-428C-A682-9261E69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313F-7C00-4BB6-A126-84D675708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lectrical activity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24000" y="441360"/>
            <a:ext cx="882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s conductance decrea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K ions conductance pers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ions outflow returns to membrane potential to Nernst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80880" y="473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ing membrane pot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 with equal conductance for positive and negativ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rane potential remains at the value of Nernst’s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s://www.urmc.rochester.edu/Encyclopedia/GetImage.aspx?ImageID=125477"/>
          <p:cNvPicPr/>
          <p:nvPr/>
        </p:nvPicPr>
        <p:blipFill>
          <a:blip r:embed="rId1"/>
          <a:stretch/>
        </p:blipFill>
        <p:spPr>
          <a:xfrm>
            <a:off x="1042920" y="378000"/>
            <a:ext cx="7129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250920" y="700560"/>
            <a:ext cx="8893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 system of the heart: sinoatrial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atrioventricular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ysiologic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heart b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table resting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ann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27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8471880" y="47556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50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s-Purkinje’s syste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latent pacemaker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replace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up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25560" y="264492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ace of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determine heart rat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highest in SA 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shortes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slowest is His-Purkinje’s syste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S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AV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is-Purkinje’s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reason why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 pacemaker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558972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60-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40-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 Purkinje’s fib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5-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324000" y="6588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w and spontaneous depolar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use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 activity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is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well as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 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s as a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50"/>
          <p:cNvSpPr/>
          <p:nvPr/>
        </p:nvSpPr>
        <p:spPr>
          <a:xfrm>
            <a:off x="250920" y="745560"/>
            <a:ext cx="856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membrane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ions inflow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most reaching the value of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ce in ions transf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trial and ventricular muscles in pha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26"/>
          <p:cNvSpPr/>
          <p:nvPr/>
        </p:nvSpPr>
        <p:spPr>
          <a:xfrm>
            <a:off x="241200" y="643320"/>
            <a:ext cx="8640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 ions outflo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 of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phases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26"/>
          <p:cNvSpPr/>
          <p:nvPr/>
        </p:nvSpPr>
        <p:spPr>
          <a:xfrm>
            <a:off x="395280" y="353880"/>
            <a:ext cx="85694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ing down of impuls transmission in AV 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ive fibe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r diame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an SA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p jun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ncreased res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039680"/>
            <a:ext cx="381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time required for excitation transmission through cardiac t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s o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ve ions inflow during phas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itive corre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His-Purkinje’s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llowing the synchronized ventricular contrac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258920" y="191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ANATOMY OF THE CARDIAC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80880" y="1685880"/>
            <a:ext cx="3830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alated dis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located at the end of cardiac muscle cells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ap junction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 to 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ntercalated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low electrical resistance pathway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rapid signal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cardiac muscle to operate a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ical syncy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www.austincc.edu/apreview/NursingPics/CardiacPics/Picture6.jpg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1268280"/>
            <a:ext cx="3353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st in AV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llowing the ventricular fillin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velocity increases – insufficient ventricular fillin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08000" y="311760"/>
            <a:ext cx="4968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 numer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ep cell membrane invagination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ger diame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ed in th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the transfer of action potential into the muscl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robust in chambers (than in atria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th sarcoplasmic ret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 voltage-dependent calcium receptor -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hydropyridine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08000" y="1699560"/>
            <a:ext cx="46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rcoplasmic reticulum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diameter tubules located near contractil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of calcium ions and releasing site for calcium ions (excitation and contra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calcium channels 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anodine receptors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HYTHMIC EXCITATION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62828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diac muscle conta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rial and ventricular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conduction system (specialized muscle fib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А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V node – АV bund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 bu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kinje’s fi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50840" y="17784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OF TH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080000"/>
            <a:ext cx="85690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tricule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ria and Purkinj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e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pp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90 m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reaching the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especially in Purkinje’s fibers (30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479160" y="4292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24000" y="330840"/>
            <a:ext cx="85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e to transi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permeability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ich allows enter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ns and depolarize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ches the Nernst’s potential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67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8680" y="489600"/>
            <a:ext cx="835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 ions outflow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ly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 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ed by chemical and electrical gradi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du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d permeability for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1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228600"/>
            <a:ext cx="8497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"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taneous increase in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flow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still remaining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conduc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ut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ons transfer is almost 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the membrane potential remains its valu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isoelectric, plat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Korisnik</cp:lastModifiedBy>
  <dcterms:modified xsi:type="dcterms:W3CDTF">2023-10-10T12:20:06Z</dcterms:modified>
  <cp:revision>259</cp:revision>
  <dc:subject/>
  <dc:title>Slide 1</dc:title>
</cp:coreProperties>
</file>